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2C3-2AA7-4162-8802-58C1C7A5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810-A579-4ADF-8F86-E495DEA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713-61C7-427E-9CD6-CBF55A11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454-BED6-46F2-B51C-619AF7F4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F56-4AB9-4CBD-AB62-7A850867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22A-EAE5-44D0-AA6F-5BA46F6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3B-C6E3-42D5-ADB8-C96F5E7B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C8C-6A92-420C-AD71-E888AE1D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580-28BE-4FA7-A01C-2BC4E6B8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EBD-9845-4BFA-BFDE-3086F22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84E-57FC-4509-9E2E-55BEAC1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9C4-E072-4F30-8CE1-43AB193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91D-F26C-4A4C-B826-84415EB8D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y’s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Times New Roman"/>
              </a:rPr>
              <a:t>By: Cassandra Bl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a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1010047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smine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0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yan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P1010104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dy’s Parents and Un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usa-1039796-01-a-01_01-01.jpg"/>
          <p:cNvPicPr/>
          <p:nvPr/>
        </p:nvPicPr>
        <p:blipFill>
          <a:blip r:embed="rId1"/>
          <a:stretch/>
        </p:blipFill>
        <p:spPr>
          <a:xfrm>
            <a:off x="2895480" y="1523880"/>
            <a:ext cx="350532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OU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A1000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1:58:45Z</dcterms:created>
  <dc:creator>ccstudent</dc:creator>
  <dc:description/>
  <dc:language>en-US</dc:language>
  <cp:lastModifiedBy>ccstudent</cp:lastModifiedBy>
  <dcterms:modified xsi:type="dcterms:W3CDTF">2012-03-25T12:17:55Z</dcterms:modified>
  <cp:revision>2</cp:revision>
  <dc:subject/>
  <dc:title>Sandy’s Family</dc:title>
</cp:coreProperties>
</file>